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1.jpeg" ContentType="image/jpeg"/>
  <Override PartName="/ppt/media/image26.jpeg" ContentType="image/jpeg"/>
  <Override PartName="/ppt/media/image20.wmf" ContentType="image/x-wmf"/>
  <Override PartName="/ppt/media/image32.jpeg" ContentType="image/jpeg"/>
  <Override PartName="/ppt/media/image12.wmf" ContentType="image/x-wmf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9.wmf" ContentType="image/x-wmf"/>
  <Override PartName="/ppt/media/image3.png" ContentType="image/png"/>
  <Override PartName="/ppt/media/image17.jpeg" ContentType="image/jpeg"/>
  <Override PartName="/ppt/media/image11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.png" ContentType="image/png"/>
  <Override PartName="/ppt/media/image24.png" ContentType="image/png"/>
  <Override PartName="/ppt/media/image14.jpeg" ContentType="image/jpeg"/>
  <Override PartName="/ppt/media/image15.wmf" ContentType="image/x-wmf"/>
  <Override PartName="/ppt/media/image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72FA5-C1D9-4169-9B78-6E904D5B7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56771-3B58-4DF8-A0AA-E0875999D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C4876-35DA-4DB8-9AA6-FEB2846BA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150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78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150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78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E640E-8260-4818-ACE6-592908641F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E41EF-DE3B-434B-A0A8-4D86200CA7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C3698-19B9-43CF-9308-C50EA005F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EEE63-99BC-4158-83DF-86F79CCFD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8A82D-D185-4A0E-9847-8712CFF2E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3657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69B9A-E11B-4353-9EBF-72F6FA60F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3B0D1-CD31-431C-98E7-785ECD8AA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0EBD7-4B23-4851-AFB2-81ACE7AFB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90A9E-0BB9-4A57-826A-BBE2C1AA7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7" descr="other logo for powerpoint"/>
          <p:cNvPicPr/>
          <p:nvPr/>
        </p:nvPicPr>
        <p:blipFill>
          <a:blip r:embed="rId2"/>
          <a:stretch/>
        </p:blipFill>
        <p:spPr>
          <a:xfrm>
            <a:off x="1219320" y="2819520"/>
            <a:ext cx="2120760" cy="2895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8" descr="book cover2"/>
          <p:cNvPicPr/>
          <p:nvPr/>
        </p:nvPicPr>
        <p:blipFill>
          <a:blip r:embed="rId3"/>
          <a:stretch/>
        </p:blipFill>
        <p:spPr>
          <a:xfrm>
            <a:off x="914400" y="2286000"/>
            <a:ext cx="2797200" cy="36939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99"/>
          <p:cNvSpPr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1371600" cy="1676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1371600" y="0"/>
            <a:ext cx="4114800" cy="167652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228240" y="61718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F8FE-5C60-4FEF-95F1-8FE14F561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1371600" y="1600200"/>
            <a:ext cx="41148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Rectangle 93"/>
          <p:cNvSpPr/>
          <p:nvPr/>
        </p:nvSpPr>
        <p:spPr>
          <a:xfrm>
            <a:off x="0" y="1600200"/>
            <a:ext cx="13716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" name="Picture 94" descr="oxford logo4"/>
          <p:cNvPicPr/>
          <p:nvPr/>
        </p:nvPicPr>
        <p:blipFill>
          <a:blip r:embed="rId4"/>
          <a:stretch/>
        </p:blipFill>
        <p:spPr>
          <a:xfrm>
            <a:off x="103320" y="152280"/>
            <a:ext cx="506160" cy="129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alibri"/>
              </a:rPr>
              <a:t>Chapter #11: </a:t>
            </a:r>
            <a:r>
              <a:rPr b="0" lang="en-US" sz="4800" spc="-1" strike="noStrike">
                <a:solidFill>
                  <a:srgbClr val="3333ff"/>
                </a:solidFill>
                <a:latin typeface="Calibri"/>
              </a:rPr>
              <a:t>Output Stages and Power Amplifiers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croelectronic Circui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edra and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ford Publi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2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ower Dissip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ximum instantaneous power dissip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C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equal to power dissipation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no signal applie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quiescent power dissipatio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tter-follower transistor dissipates the largest amount of pow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en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=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this condition (no input signal)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y be maintained or long periods of ti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ransist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be able to withstand a continuous power dissipation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C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se11F04"/>
          <p:cNvPicPr/>
          <p:nvPr/>
        </p:nvPicPr>
        <p:blipFill>
          <a:blip r:embed="rId1"/>
          <a:stretch/>
        </p:blipFill>
        <p:spPr>
          <a:xfrm>
            <a:off x="1371600" y="228600"/>
            <a:ext cx="6400800" cy="5289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228600" y="5638680"/>
            <a:ext cx="86868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4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ximum signal waveforms in the class A output stage of Fig. 11.2 under the conditio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CC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, equivalently,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CC/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the transistor saturation voltages have been neglec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2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ower Conversion Efficienc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766800" y="1938240"/>
          <a:ext cx="7615080" cy="408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1938240"/>
                    <a:ext cx="7615080" cy="40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1981080"/>
            <a:ext cx="49528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lass B Output Stag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519200" y="2077920"/>
          <a:ext cx="6024600" cy="43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077920"/>
                    <a:ext cx="6024600" cy="43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se11F05"/>
          <p:cNvPicPr/>
          <p:nvPr/>
        </p:nvPicPr>
        <p:blipFill>
          <a:blip r:embed="rId1"/>
          <a:stretch/>
        </p:blipFill>
        <p:spPr>
          <a:xfrm>
            <a:off x="1846440" y="228600"/>
            <a:ext cx="546876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2286000" y="62326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lass B output st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se11F06"/>
          <p:cNvPicPr/>
          <p:nvPr/>
        </p:nvPicPr>
        <p:blipFill>
          <a:blip r:embed="rId1"/>
          <a:stretch/>
        </p:blipFill>
        <p:spPr>
          <a:xfrm>
            <a:off x="228600" y="824040"/>
            <a:ext cx="8686800" cy="47386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228600" y="6232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6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fer characteristic for the class B output stage in Fig. 11.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3.4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wer Dissip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282600" y="2224080"/>
          <a:ext cx="8556480" cy="38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2224080"/>
                    <a:ext cx="8556480" cy="38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se11F08"/>
          <p:cNvPicPr/>
          <p:nvPr/>
        </p:nvPicPr>
        <p:blipFill>
          <a:blip r:embed="rId1"/>
          <a:stretch/>
        </p:blipFill>
        <p:spPr>
          <a:xfrm>
            <a:off x="152280" y="1023840"/>
            <a:ext cx="8720280" cy="4767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228600" y="5943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8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wer dissipation of the class B output stage versus amplitude of the output sinuso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3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Reducing Crossover Distor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ossover distortion of class B output stag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may be reduced substantiall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loying High-gain Op-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all Negative 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.7V deadband is reduced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0.7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ew-rate limitation of op-amp wil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use alternate turning on and off of output transis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be notice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practical solution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lass AB s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se11F09"/>
          <p:cNvPicPr/>
          <p:nvPr/>
        </p:nvPicPr>
        <p:blipFill>
          <a:blip r:embed="rId1"/>
          <a:stretch/>
        </p:blipFill>
        <p:spPr>
          <a:xfrm>
            <a:off x="228600" y="977760"/>
            <a:ext cx="8610480" cy="47372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304920" y="592776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9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 B circuit with an op amp connected in a negative-feedback loop to reduce crossover distor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assification of amplifier output stages on the basis of 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raction of the cycle of an input sine wa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uring which the transistor condu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sis and design of 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ariety of output-stage typ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anging from the simple but power-inefficient emitter follower class (class A) to the popular push-pull class AB circuit in both bipolar and CMOS technolog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rmal considera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design and fabrication of high-output power circu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04920" y="62326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10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 B output stage operated with a single power supp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se11F10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70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lass AB Output Stag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4038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ossover distortion can be virtually eliminated by biasing the complementary output transistor wit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mall nonzero cur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ias voltag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pplied betwe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se11P39"/>
          <p:cNvPicPr/>
          <p:nvPr/>
        </p:nvPicPr>
        <p:blipFill>
          <a:blip r:embed="rId1"/>
          <a:stretch/>
        </p:blipFill>
        <p:spPr>
          <a:xfrm>
            <a:off x="4724280" y="2057400"/>
            <a:ext cx="4197600" cy="458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lass AB Output Stag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Object 3"/>
          <p:cNvGraphicFramePr/>
          <p:nvPr/>
        </p:nvGraphicFramePr>
        <p:xfrm>
          <a:off x="1327320" y="3309840"/>
          <a:ext cx="644508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3309840"/>
                    <a:ext cx="644508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se11F12"/>
          <p:cNvPicPr/>
          <p:nvPr/>
        </p:nvPicPr>
        <p:blipFill>
          <a:blip r:embed="rId1"/>
          <a:stretch/>
        </p:blipFill>
        <p:spPr>
          <a:xfrm>
            <a:off x="838080" y="304920"/>
            <a:ext cx="7467840" cy="57402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228600" y="62326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12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fer characteristic of the class AB stage in Fig. 11.1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4.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utput Resistanc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62120" y="2209680"/>
          <a:ext cx="75135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75135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28600" y="6004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1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the small-signal output resistance of the class AB circuit of Fig. 11.1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se11F13"/>
          <p:cNvPicPr/>
          <p:nvPr/>
        </p:nvPicPr>
        <p:blipFill>
          <a:blip r:embed="rId1"/>
          <a:stretch/>
        </p:blipFill>
        <p:spPr>
          <a:xfrm>
            <a:off x="2209680" y="380880"/>
            <a:ext cx="4788000" cy="541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Biasing the Class AB Circu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11.14 show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lass AB circu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bias voltag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ant current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BIA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s passed through pair of diod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ircuits that supply large amounts of power,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utput transistors are large-geometry de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asing diodes, however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eed not be lar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" y="1981080"/>
            <a:ext cx="44956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Biasing the Class AB Circu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2514600" y="2144880"/>
            <a:ext cx="4038480" cy="35701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228600" y="5699160"/>
            <a:ext cx="86104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14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lass AB output stage utilizing diodes for biasing.  If the junction area of the output devices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is n-times that of the biasing device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 quiescent curren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BIA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lows in the output devi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5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Biasing Using the VBE Multipl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1866960" y="2003400"/>
          <a:ext cx="5448240" cy="47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2003400"/>
                    <a:ext cx="544824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se11P46"/>
          <p:cNvPicPr/>
          <p:nvPr/>
        </p:nvPicPr>
        <p:blipFill>
          <a:blip r:embed="rId1"/>
          <a:stretch/>
        </p:blipFill>
        <p:spPr>
          <a:xfrm>
            <a:off x="228600" y="304920"/>
            <a:ext cx="4102200" cy="5181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se11F11"/>
          <p:cNvPicPr/>
          <p:nvPr/>
        </p:nvPicPr>
        <p:blipFill>
          <a:blip r:embed="rId2"/>
          <a:stretch/>
        </p:blipFill>
        <p:spPr>
          <a:xfrm>
            <a:off x="4648320" y="1752480"/>
            <a:ext cx="4267080" cy="33703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228600" y="5943600"/>
            <a:ext cx="41911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1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lass AB output stage utilizing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ltiplier for bias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724280" y="563868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16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discrete-circuit class AB output stage with a potentiometer used in the VBE multipli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ful and interesting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ircuit techniqu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mployed in the design of power amplifi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ypes of MOS transistors optimiz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high-power applic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ower BJT’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.7.1. Junction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 to 2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.7.2. Thermal Re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eq11.69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.7.3. Power Dissipation Versus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must examine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power-derating cur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.7.4. Transistor Case and Heat S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eq11.72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J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J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4" descr="se11F25"/>
          <p:cNvPicPr/>
          <p:nvPr/>
        </p:nvPicPr>
        <p:blipFill>
          <a:blip r:embed="rId1"/>
          <a:stretch/>
        </p:blipFill>
        <p:spPr>
          <a:xfrm>
            <a:off x="1371600" y="488880"/>
            <a:ext cx="6324480" cy="4083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228600" y="478476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2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opular TO3 package for power transistors. The case is metal with a diameter of about 2.2 cm; the outside dimension of the “seating plane” is about 4 cm. The seating plane has two holes for screws to bolt it to a heat sink. The collector is electrically connected to the case. Therefore an electrically insulating but thermally conducting spacer is used between the transistor case and the “heat sink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se11F26"/>
          <p:cNvPicPr/>
          <p:nvPr/>
        </p:nvPicPr>
        <p:blipFill>
          <a:blip r:embed="rId1"/>
          <a:stretch/>
        </p:blipFill>
        <p:spPr>
          <a:xfrm>
            <a:off x="152280" y="1447920"/>
            <a:ext cx="4114800" cy="3924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e11F27"/>
          <p:cNvPicPr/>
          <p:nvPr/>
        </p:nvPicPr>
        <p:blipFill>
          <a:blip r:embed="rId2"/>
          <a:stretch/>
        </p:blipFill>
        <p:spPr>
          <a:xfrm>
            <a:off x="4724280" y="2360520"/>
            <a:ext cx="4148280" cy="22114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4648320" y="563868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27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ximum allowable power dissipation versus transistor-case temperatu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28600" y="563868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26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ctrical analog of the thermal conduction process when a heat sink is utiliz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7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BJT Safe Operating Are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ximum allowable current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M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Exceeding this current on a continuous basis can result in melting the wires that bond the device to the package termin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ximum power dissipation hyperbola.  This is the locus of the points for whic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E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m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  For temperature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power derating curves described in Section 11.7.4 should be used to obtain the applicabl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m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thus a correspondingly lower hyperbol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7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BJT Safe Operating Are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cond-breakdown limit.  Second breakdown is a phenomenon that results becaus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urrent flow across the emitter-base junction is not uniform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Rather, the current density is greatest near the periphery of the j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t Spo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 Runa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llector-to-emitter breakdown voltage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B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E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se11F29"/>
          <p:cNvPicPr/>
          <p:nvPr/>
        </p:nvPicPr>
        <p:blipFill>
          <a:blip r:embed="rId1"/>
          <a:stretch/>
        </p:blipFill>
        <p:spPr>
          <a:xfrm>
            <a:off x="228600" y="684360"/>
            <a:ext cx="8686800" cy="54115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228600" y="6232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29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fe operating area (SOA) of a BJ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7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arameter Values of Power Transisto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high currents, the exponential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B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relationship exhibits a factor of 2 redu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expon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s low, typically 30 to 8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but can be as low as 5).  It is important to note that b has a positive temperature coeffici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high currents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becomes very sm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 few ohms)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comes import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s low (a few MHz)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large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even larg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B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large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E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ypically 50 to 100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m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ypically in ampere range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s high as 100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9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C Power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gain, small-signal amplifi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llowed by class AB output s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al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egative feedb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lready appli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 current-driving capability of any general-purpose op-amp may be increased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scading it with class B or class AB output s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ybrid 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228600" y="6232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3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mal-shutdown circu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se11F35"/>
          <p:cNvPicPr/>
          <p:nvPr/>
        </p:nvPicPr>
        <p:blipFill>
          <a:blip r:embed="rId1"/>
          <a:stretch/>
        </p:blipFill>
        <p:spPr>
          <a:xfrm>
            <a:off x="2932200" y="228600"/>
            <a:ext cx="324000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28600" y="60199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36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implified internal circuit of the LM380 IC power amplifier. (Courtesy National Semiconductor Corporation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se11F36"/>
          <p:cNvPicPr/>
          <p:nvPr/>
        </p:nvPicPr>
        <p:blipFill>
          <a:blip r:embed="rId1"/>
          <a:stretch/>
        </p:blipFill>
        <p:spPr>
          <a:xfrm>
            <a:off x="380880" y="152280"/>
            <a:ext cx="8382240" cy="572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important aspect of an amplifier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utput res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affects its ability to deliver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oad without loss of g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or significant los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 signals are of interest a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mall-signal models cannot be appli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Total harmonic distor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good measure of linearity of output stag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228600" y="60199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37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mall-signal analysis of the circuit in Fig. 11.36. The circled numbers indicate the order of the analysis ste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se11F37"/>
          <p:cNvPicPr/>
          <p:nvPr/>
        </p:nvPicPr>
        <p:blipFill>
          <a:blip r:embed="rId1"/>
          <a:stretch/>
        </p:blipFill>
        <p:spPr>
          <a:xfrm>
            <a:off x="981000" y="152280"/>
            <a:ext cx="7172280" cy="576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 stages are classified according to the transistor conduction angle: class A (3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class AB (slightly more than 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class B (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and class C (less than 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common class A output stage is the emitter-follower.  It is biased at a current greater than the peak load cur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A output stage dissipates its maximum power under quiescent conditions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).  It achieves a maximum power conversion efficiency of 25%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B stage is biased at zero current, and thus dissipates no power in quiesc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B stage can achieve a power conversion efficiency as high as 78.5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B stage suffers from crossover distor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AB output stage is biased at a small current; thus both transistors conduct for small input signals, and crossover distortion is virtually elimin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pt for an additional small quiescent power dissipation, the power relationships of the class AB stage are similar to those in class 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guard against the possibility of thermal runaway, the bias voltage of the class AB circuit is made to vary with temperature in the same manner as doe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output transis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ical CMOS class AB output stage suffers from reducing output signal-swing.  This problem may be overcome by replacing the source-follower output transistor with a pair of complementary de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hallenging aspect of output stage design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ffici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wer dissip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highly correlated to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nternal junction tempera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095880"/>
            <a:ext cx="4267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lassification of Output Stag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3505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 stages are classified according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llector current wavefor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results when input signal is appli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outlined i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gure 11.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se11F01"/>
          <p:cNvPicPr/>
          <p:nvPr/>
        </p:nvPicPr>
        <p:blipFill>
          <a:blip r:embed="rId1"/>
          <a:stretch/>
        </p:blipFill>
        <p:spPr>
          <a:xfrm>
            <a:off x="3962520" y="2009880"/>
            <a:ext cx="4876560" cy="46195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4572000" y="212760"/>
            <a:ext cx="434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1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ector current waveforms for transistors operating i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A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B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AB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C amplifier st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1981080"/>
            <a:ext cx="49528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lass A Output Stag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1905120" y="2093760"/>
          <a:ext cx="5209920" cy="47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093760"/>
                    <a:ext cx="5209920" cy="47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se11F02"/>
          <p:cNvPicPr/>
          <p:nvPr/>
        </p:nvPicPr>
        <p:blipFill>
          <a:blip r:embed="rId1"/>
          <a:stretch/>
        </p:blipFill>
        <p:spPr>
          <a:xfrm>
            <a:off x="1676520" y="228600"/>
            <a:ext cx="5715000" cy="5562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F11"/>
          <p:cNvPicPr/>
          <p:nvPr/>
        </p:nvPicPr>
        <p:blipFill>
          <a:blip r:embed="rId2"/>
          <a:stretch/>
        </p:blipFill>
        <p:spPr>
          <a:xfrm>
            <a:off x="228600" y="6024600"/>
            <a:ext cx="8686800" cy="60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se11F03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5413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228600" y="5910120"/>
            <a:ext cx="8686800" cy="70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2:06:37Z</dcterms:created>
  <dc:creator>deese</dc:creator>
  <dc:description/>
  <dc:language>en-US</dc:language>
  <cp:lastModifiedBy>Jeffrey N. Denenberg</cp:lastModifiedBy>
  <dcterms:modified xsi:type="dcterms:W3CDTF">2013-04-23T16:06:33Z</dcterms:modified>
  <cp:revision>404</cp:revision>
  <dc:subject/>
  <dc:title>Slide 1</dc:title>
</cp:coreProperties>
</file>